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43D7-E208-49BF-8340-193ECD86E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8CE4-C80D-48EE-AD7B-E02827476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C7AE-F6CA-40F2-A07B-BDE33B032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112-2A40-4D20-9C5E-DE91B9C7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71C-E5D1-4B9D-870E-37337DDB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AF49-3203-42E2-9589-290CD48F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BA7-2C00-4A89-ACB4-7BC78014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FE8-508F-445B-8CF1-98E57713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275-F86D-40AD-AF3A-B714F999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010-3F84-4804-8AD1-89F083AF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CAE-18FA-4FD1-AFCE-33A0C4EC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85E5-6140-4BE9-AC2F-B719F443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E1C-FED3-428D-8A92-42C8DABA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188-C957-47A5-AC37-B83C6566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3422-2438-48F7-A69E-9203100F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682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577800" y="6348240"/>
            <a:ext cx="363600" cy="4334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D:\Publications\LOGO's\ILRI-logo-small.jpg"/>
          <p:cNvPicPr/>
          <p:nvPr/>
        </p:nvPicPr>
        <p:blipFill>
          <a:blip r:embed="rId3"/>
          <a:stretch/>
        </p:blipFill>
        <p:spPr>
          <a:xfrm>
            <a:off x="76320" y="6400800"/>
            <a:ext cx="37152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682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577800" y="6348240"/>
            <a:ext cx="363600" cy="433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D:\Publications\LOGO's\ILRI-logo-small.jpg"/>
          <p:cNvPicPr/>
          <p:nvPr/>
        </p:nvPicPr>
        <p:blipFill>
          <a:blip r:embed="rId3"/>
          <a:stretch/>
        </p:blipFill>
        <p:spPr>
          <a:xfrm>
            <a:off x="76320" y="6400800"/>
            <a:ext cx="37152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682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577800" y="6348240"/>
            <a:ext cx="363600" cy="4334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9" descr="D:\Publications\LOGO's\ILRI-logo-small.jpg"/>
          <p:cNvPicPr/>
          <p:nvPr/>
        </p:nvPicPr>
        <p:blipFill>
          <a:blip r:embed="rId3"/>
          <a:stretch/>
        </p:blipFill>
        <p:spPr>
          <a:xfrm>
            <a:off x="76320" y="6400800"/>
            <a:ext cx="37152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682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2"/>
          <a:stretch/>
        </p:blipFill>
        <p:spPr>
          <a:xfrm>
            <a:off x="577800" y="6348240"/>
            <a:ext cx="363600" cy="4334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9" descr="D:\Publications\LOGO's\ILRI-logo-small.jpg"/>
          <p:cNvPicPr/>
          <p:nvPr/>
        </p:nvPicPr>
        <p:blipFill>
          <a:blip r:embed="rId3"/>
          <a:stretch/>
        </p:blipFill>
        <p:spPr>
          <a:xfrm>
            <a:off x="76320" y="6400800"/>
            <a:ext cx="37152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2"/>
          <p:cNvGrpSpPr/>
          <p:nvPr/>
        </p:nvGrpSpPr>
        <p:grpSpPr>
          <a:xfrm>
            <a:off x="1228680" y="6543720"/>
            <a:ext cx="6705720" cy="231120"/>
            <a:chOff x="1228680" y="6543720"/>
            <a:chExt cx="6705720" cy="231120"/>
          </a:xfrm>
        </p:grpSpPr>
        <p:sp>
          <p:nvSpPr>
            <p:cNvPr id="532" name="TextBox 6"/>
            <p:cNvSpPr/>
            <p:nvPr/>
          </p:nvSpPr>
          <p:spPr>
            <a:xfrm>
              <a:off x="1838160" y="6543720"/>
              <a:ext cx="609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</a:rPr>
                <a:t>The presentation has a Creative Commons licens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3" name="Picture 4" descr="P:\Pictures&amp;Resources\Icons\by-nc-sa.png"/>
            <p:cNvPicPr/>
            <p:nvPr/>
          </p:nvPicPr>
          <p:blipFill>
            <a:blip r:embed="rId2"/>
            <a:stretch/>
          </p:blipFill>
          <p:spPr>
            <a:xfrm>
              <a:off x="1228680" y="6554160"/>
              <a:ext cx="598320" cy="21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4" name="TextBox 5"/>
          <p:cNvSpPr/>
          <p:nvPr/>
        </p:nvSpPr>
        <p:spPr>
          <a:xfrm>
            <a:off x="9360" y="2303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better lives through live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2295360" y="3149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2123"/>
                </a:solidFill>
                <a:latin typeface="Arial"/>
              </a:rPr>
              <a:t>ilri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7" descr=""/>
          <p:cNvPicPr/>
          <p:nvPr/>
        </p:nvPicPr>
        <p:blipFill>
          <a:blip r:embed="rId3"/>
          <a:stretch/>
        </p:blipFill>
        <p:spPr>
          <a:xfrm>
            <a:off x="998640" y="5257800"/>
            <a:ext cx="7165800" cy="119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682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9636-1975-4985-8326-C3605F0D10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682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2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112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0" y="205740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Arial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Arial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1539720" y="4689360"/>
            <a:ext cx="6064560" cy="19400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682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0" y="0"/>
            <a:ext cx="9144000" cy="3500280"/>
          </a:xfrm>
          <a:prstGeom prst="rect">
            <a:avLst/>
          </a:prstGeom>
          <a:solidFill>
            <a:srgbClr val="682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640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10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es followed &amp; lessons learned – Group Feedback -Seriti Ke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95280" y="41911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LATE Training for Africa RISING / NBD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dis Ababa / Jeldu. 1 - 5 April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3232"/>
                </a:solidFill>
                <a:latin typeface="Calibri"/>
              </a:rPr>
              <a:t>Lessons drawn from field Process</a:t>
            </a:r>
            <a:endParaRPr b="0" lang="en-US" sz="4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0" y="21337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age of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common understanding reached on weighting and scoreing as well as description of the indica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explanatory guide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indicators identific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ing should represent the diversity (elders, women Headed households, youth, poor, medium and rich…gender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livelihood system: agro-ecolog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3232"/>
                </a:solidFill>
                <a:latin typeface="Calibri"/>
              </a:rPr>
              <a:t>Lessons drawn from field Process (Cont’d….)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0" y="15235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estionnaire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ing of irrelevant indicators (like moon, sun, air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or description should be understood clearly (is it Access, Availability, ownership et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ing and resource like printer needs to be available during the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sehold 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ing should represent the divers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livelihood system: agro-ec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and negative impacts of giving incentives to the farmers  (concerns for contributing in missing our targe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 barriers/g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3232"/>
                </a:solidFill>
                <a:latin typeface="Calibri"/>
              </a:rPr>
              <a:t>Lessons drawn from field Process (Cont’d….)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0" y="22860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usehold characteris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ressing  the relationship between  household head and interviewee should be taken into consid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need to be reviewed in the context of the kebel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nd size (Owned and rent in, shared out), Grazing land was not well addres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unit of the land size should be carefully addressed (Local measurements should be standardized e.g. 1ha=8 kerte/Timad in Seriti kebelle, 1ha=4 timad other areas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vestock: Cattle was not well specified (Heifers, Steer, Calf), Poultry and Beekeeping was not inclu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3232"/>
                </a:solidFill>
                <a:latin typeface="Calibri"/>
              </a:rPr>
              <a:t>Lessons drawn from field Process (Cont’d….)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0" y="20570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ight  and Score (Impac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ther Weight is the Relevant vs. Adequacy of the indicator needs to be consider (e.g. Rain fall….) Lack of consist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in one capital Asset many indicators get similar weight  (e.g. Ranking vs Similar weigh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ore impact vs Contribution to livelih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unerability was not considered during the data collec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ighting as compare to other indicators was difficult to far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232"/>
                </a:solidFill>
                <a:latin typeface="Calibri"/>
              </a:rPr>
              <a:t>Lessons drawn from field Process (Cont’d….)</a:t>
            </a:r>
            <a:endParaRPr b="0" lang="en-US" sz="4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0" y="281952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2260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nguage Translation was barrier and might have contributed  to  message distor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acilitator should have good Knowledge of the area and langua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collection location should be at FTC or House to house int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eld facilities avaialbility  (field bag, Binder, other stationary material, camera for documentation etc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232"/>
                </a:solidFill>
                <a:latin typeface="Calibri"/>
              </a:rPr>
              <a:t>Lessons drawn from field Process (Cont’d….)</a:t>
            </a:r>
            <a:endParaRPr b="0" lang="en-US" sz="4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0" y="312408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Feed and Interpre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oftware was not user friendly (difficulties on data merging from different compu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 interpretation problem in the Benchmarking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ould have been good to understand the software final  output and how to make conclusions and recomme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06:04:55Z</dcterms:created>
  <dc:creator>TOSHIBA</dc:creator>
  <dc:description/>
  <dc:language>en-US</dc:language>
  <cp:lastModifiedBy>Yasabu, Simret (ILRI)</cp:lastModifiedBy>
  <dcterms:modified xsi:type="dcterms:W3CDTF">2013-04-10T13:09:20Z</dcterms:modified>
  <cp:revision>44</cp:revision>
  <dc:subject/>
  <dc:title>Seriti Kebele Group</dc:title>
</cp:coreProperties>
</file>